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7A06B-CD6F-4D83-AC24-557CC23C3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59C-A8D8-4538-8ECB-C98EC05F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07A-770E-4938-8B52-A27F92FB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DB1-4D27-4EED-BA4C-42EC66F1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6CB-7105-44BD-A10C-A62395F6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C61-D424-42E5-A38E-70425B1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ECD-76F8-491B-BD18-19A34842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5FB-A3C7-4B76-AF99-11B77E7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C3D-B96D-427A-9A12-3056C38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F34-FF96-4905-B2B2-968C30A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673-85F5-4E08-B0BD-85F65A95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3E4-8DCE-412D-9B41-729478E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43E-77D6-4B64-85E0-60F1D96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7B99-6F8B-4BF0-8762-FF671A45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79640" y="720720"/>
            <a:ext cx="79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ідсистема управління користувачами, групами та правами доступу в ІАС “Університе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0" y="493236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ещака Оксана Володимир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69480" cy="58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ристувачі — це особи, для яких можливий доступ із деякими пра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рупи користувачів (групи доступу) — визначені в системі групи, котрим призначені різні права. При включенні у групу, користувач автоматично отримує певний рівень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ва доступу — список можливих дій з об'єктами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694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и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5560" y="1220760"/>
            <a:ext cx="8175600" cy="57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694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и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57320" y="1255680"/>
            <a:ext cx="812304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03320"/>
            <a:ext cx="7772400" cy="55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58840" y="1014480"/>
            <a:ext cx="774072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7680" y="1019160"/>
            <a:ext cx="7761240" cy="551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0:20:48Z</dcterms:created>
  <dc:creator/>
  <dc:description/>
  <dc:language>en-US</dc:language>
  <cp:lastModifiedBy/>
  <cp:revision>1</cp:revision>
  <dc:subject/>
  <dc:title/>
</cp:coreProperties>
</file>